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1B0-982F-4A7D-8853-0712BDC5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601-6D8A-402A-8B7F-FE5D17C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D0F-7C8A-428A-8A17-E5850206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1EC-0E80-42EB-8B76-5BA4260D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770D-E019-4D77-AD6B-8DE3B7AC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5FE6-AEF3-408E-B808-EED37E2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6543-8DDD-4BCE-83BE-C6A699F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04A-F049-4F6C-B9CB-ED72382D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DEC3-6811-4F44-91D0-A1B1CF9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6598-0247-482D-B986-5F7AB09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5A9-B422-42E3-BBE7-8099174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1FD-36BB-450A-BB04-26938D0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256-53E2-4CD8-84B2-58CE450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62D6-9AE3-4A5B-B0B5-1B947A6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CAE3-3A72-4B35-AC09-B02ED39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796-ED7A-4172-8EE0-2CB793CB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113-8F74-421E-853D-983FE0ED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A591-2DC3-4383-8753-1B87D40B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6690-105F-4156-90FC-FD86B38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737A-57D5-4EAA-912B-2F972B8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3A95-54B8-420E-95AA-D5D2D59E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607C-F837-4D0C-89E0-B04E79DE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241-5F06-4A8F-8787-9D77030E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A7B6-0DE7-4189-84C8-E80BB92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0B21-8099-471B-A7D5-5EB543D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808A-F419-49F7-AD20-4482291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B8FF-F776-4784-91E6-4271F89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F3E6-E081-44A2-B728-1984DE4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5502-C4BD-4AE4-912A-77560D9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7162-F72C-41F4-B7C2-414032D4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297D-DFDB-4232-A01F-1DA7BA3B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7E9F-E778-4A4C-9CB0-C434A42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1DFA-E822-4929-9971-7AF87AE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D96-F5E8-4DA1-87B4-EC2BF38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7531-66F3-4270-9E12-F8A3BFA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58A5-4A10-4E09-A16B-0C58628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7029-E40B-492C-AD9C-7369C4DA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3D32-0D4B-4F43-8A99-3D13669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BA3D-C91F-483B-BC3E-F2E0322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F963-CB86-4E8A-A844-64C78BB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7763-0B3D-4E6E-A66C-82F460A2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4CF9-BA55-42DB-8DB7-54BBA616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A7C6-1BEE-4750-85E0-A6CBEB3D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ED85-2B5F-4585-85DE-2E623811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75E-CCE6-40D4-BAD2-31F9BCC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268B-A69E-4943-B914-6BABFAD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A05B-62A1-4615-81A9-A4390802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6A8B-4B9D-4306-B8EF-DDC614C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D17D-73DF-41BC-A10B-6170510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A1EE-B447-4788-9E72-AA65300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C7E7-06F7-4796-8FA1-2B3F4E0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C4AC-B6FE-460D-9CB5-5B4D7D7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8C65-7D15-4D55-849E-DCD4A3A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0695-F484-4489-BBB0-161745B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4E02-96BC-4793-AC65-7DF8B519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66B-6B77-4591-8AF9-FC728BB7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3BCC8-F8E8-4CA8-AB9D-48DADC02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184D-3F3B-4E96-9FA7-7ECB1831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7059-8240-46D1-A6D7-E762792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634F-A4B2-42EF-AA9A-17A04BB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6945-CE44-4EEF-81D7-DD082E5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88B6-3054-4C61-B622-FCF9722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7B543-D630-4EF5-A0E3-E2362B64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ABEE-3A83-4B71-B280-D15BC0C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92F7-D293-4C43-A22B-3875B6D3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276B-1042-4D2E-9AC0-0F30F3C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176-AE66-45E0-ABAC-C0ACBB2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B592-BBBF-4734-A8E2-4EE3636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2209-9CC4-4C1B-929F-F8A45E09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8768-616B-4AC6-9D99-043744BD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D19-8A83-441A-8331-AC588F13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397-9E1E-4CA3-94F0-605F307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EF3-4582-4220-9339-80FDB3306E9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01E7-A4C4-4AB7-87F8-5C0193D8DF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440E-6A43-48D5-B9DC-CF25F12E94F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8B0-9844-4F03-9F3E-FDFBD265274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B3CC-16D8-4F10-B643-B4ED5A4760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49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50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6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68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72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76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80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D1D-2622-4F0A-B940-628E7B429C7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Владелец</cp:lastModifiedBy>
  <dcterms:modified xsi:type="dcterms:W3CDTF">2010-05-17T05:23:33Z</dcterms:modified>
  <cp:revision>61</cp:revision>
  <dc:subject/>
  <dc:title>Слайд 1</dc:title>
</cp:coreProperties>
</file>